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5EE1-95B5-40C2-819D-F6D8DFF91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40C6-A501-4E51-B1FD-7836970B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8CEF-CB39-431F-915F-6CF9424E7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707C-F0C5-487B-B5C7-84B7DCC13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85B0-882E-4390-B25E-BFB3ED1E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F64B-1764-4BA3-A00A-10514B09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CAFE-2385-4E77-859C-7069FCF7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7967-EFFF-494A-AC7D-8A316922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8FB8-8AE6-459C-AA40-C9F68CEE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F691-E49F-425C-BFF8-1903001B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117E-7008-41C5-B667-F23E738B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5E39-4256-4EA4-BA63-1E0E47C6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FD97-18BE-404E-BC05-2C500BC9F2E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2424-8803-483A-9BDD-E92610069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9"/>
          <p:cNvGrpSpPr/>
          <p:nvPr/>
        </p:nvGrpSpPr>
        <p:grpSpPr>
          <a:xfrm>
            <a:off x="0" y="0"/>
            <a:ext cx="755640" cy="6858000"/>
            <a:chOff x="0" y="0"/>
            <a:chExt cx="755640" cy="6858000"/>
          </a:xfrm>
        </p:grpSpPr>
        <p:sp>
          <p:nvSpPr>
            <p:cNvPr id="6" name="Rectangle 10"/>
            <p:cNvSpPr/>
            <p:nvPr/>
          </p:nvSpPr>
          <p:spPr>
            <a:xfrm>
              <a:off x="0" y="0"/>
              <a:ext cx="755640" cy="685800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05051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Group 11"/>
            <p:cNvGrpSpPr/>
            <p:nvPr/>
          </p:nvGrpSpPr>
          <p:grpSpPr>
            <a:xfrm>
              <a:off x="106200" y="333360"/>
              <a:ext cx="505080" cy="2806560"/>
              <a:chOff x="106200" y="333360"/>
              <a:chExt cx="505080" cy="2806560"/>
            </a:xfrm>
          </p:grpSpPr>
          <p:sp>
            <p:nvSpPr>
              <p:cNvPr id="8" name="Rectangle 12"/>
              <p:cNvSpPr/>
              <p:nvPr/>
            </p:nvSpPr>
            <p:spPr>
              <a:xfrm>
                <a:off x="106200" y="333360"/>
                <a:ext cx="505080" cy="503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3"/>
              <p:cNvSpPr/>
              <p:nvPr/>
            </p:nvSpPr>
            <p:spPr>
              <a:xfrm>
                <a:off x="106200" y="907920"/>
                <a:ext cx="505080" cy="503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4"/>
              <p:cNvSpPr/>
              <p:nvPr/>
            </p:nvSpPr>
            <p:spPr>
              <a:xfrm>
                <a:off x="106200" y="1484280"/>
                <a:ext cx="505080" cy="503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Rectangle 15"/>
              <p:cNvSpPr/>
              <p:nvPr/>
            </p:nvSpPr>
            <p:spPr>
              <a:xfrm>
                <a:off x="106200" y="2060640"/>
                <a:ext cx="505080" cy="503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6"/>
              <p:cNvSpPr/>
              <p:nvPr/>
            </p:nvSpPr>
            <p:spPr>
              <a:xfrm>
                <a:off x="106200" y="2637000"/>
                <a:ext cx="505080" cy="50292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44"/>
          <p:cNvSpPr/>
          <p:nvPr/>
        </p:nvSpPr>
        <p:spPr>
          <a:xfrm>
            <a:off x="-20520" y="1509840"/>
            <a:ext cx="9144000" cy="55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35"/>
          <p:cNvGrpSpPr/>
          <p:nvPr/>
        </p:nvGrpSpPr>
        <p:grpSpPr>
          <a:xfrm>
            <a:off x="65160" y="1523520"/>
            <a:ext cx="3888720" cy="5129280"/>
            <a:chOff x="65160" y="1523520"/>
            <a:chExt cx="3888720" cy="5129280"/>
          </a:xfrm>
        </p:grpSpPr>
        <p:sp>
          <p:nvSpPr>
            <p:cNvPr id="51" name="Text Box 43"/>
            <p:cNvSpPr/>
            <p:nvPr/>
          </p:nvSpPr>
          <p:spPr>
            <a:xfrm>
              <a:off x="2406960" y="1558800"/>
              <a:ext cx="886320" cy="29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800080"/>
                  </a:solidFill>
                  <a:latin typeface="Arial"/>
                  <a:ea typeface="Times New Roman"/>
                </a:rPr>
                <a:t>Requi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Group 36"/>
            <p:cNvGrpSpPr/>
            <p:nvPr/>
          </p:nvGrpSpPr>
          <p:grpSpPr>
            <a:xfrm>
              <a:off x="65160" y="1523520"/>
              <a:ext cx="3888720" cy="5129280"/>
              <a:chOff x="65160" y="1523520"/>
              <a:chExt cx="3888720" cy="5129280"/>
            </a:xfrm>
          </p:grpSpPr>
          <p:sp>
            <p:nvSpPr>
              <p:cNvPr id="53" name="Rectangle 42"/>
              <p:cNvSpPr/>
              <p:nvPr/>
            </p:nvSpPr>
            <p:spPr>
              <a:xfrm>
                <a:off x="65160" y="1845720"/>
                <a:ext cx="2807280" cy="4807080"/>
              </a:xfrm>
              <a:prstGeom prst="rect">
                <a:avLst/>
              </a:prstGeom>
              <a:solidFill>
                <a:srgbClr val="008000">
                  <a:alpha val="2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Text Box 41"/>
              <p:cNvSpPr/>
              <p:nvPr/>
            </p:nvSpPr>
            <p:spPr>
              <a:xfrm>
                <a:off x="321480" y="2057400"/>
                <a:ext cx="2286000" cy="70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vidence: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liable, Relevant, Timely, and Accessible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40"/>
              <p:cNvSpPr/>
              <p:nvPr/>
            </p:nvSpPr>
            <p:spPr>
              <a:xfrm>
                <a:off x="2360160" y="4132080"/>
                <a:ext cx="957600" cy="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39"/>
              <p:cNvSpPr/>
              <p:nvPr/>
            </p:nvSpPr>
            <p:spPr>
              <a:xfrm>
                <a:off x="2403360" y="3263760"/>
                <a:ext cx="1257480" cy="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AutoShape 38"/>
              <p:cNvSpPr/>
              <p:nvPr/>
            </p:nvSpPr>
            <p:spPr>
              <a:xfrm flipH="1" rot="21574800">
                <a:off x="1231560" y="1533240"/>
                <a:ext cx="2719800" cy="487440"/>
              </a:xfrm>
              <a:custGeom>
                <a:avLst/>
                <a:gdLst>
                  <a:gd name="textAreaLeft" fmla="*/ 489600 w 2719800"/>
                  <a:gd name="textAreaRight" fmla="*/ 1845360 w 2719800"/>
                  <a:gd name="textAreaTop" fmla="*/ 65160 h 487440"/>
                  <a:gd name="textAreaBottom" fmla="*/ 422280 h 487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785" hR="21600" stAng="10800000" swAng="5400000"/>
                    <a:lnTo>
                      <a:pt x="10767" y="0"/>
                    </a:lnTo>
                    <a:arcTo wR="7785" hR="21600" stAng="-5400000" swAng="3159693"/>
                    <a:lnTo>
                      <a:pt x="21321" y="15874"/>
                    </a:lnTo>
                    <a:lnTo>
                      <a:pt x="17060" y="21600"/>
                    </a:lnTo>
                    <a:lnTo>
                      <a:pt x="12241" y="15874"/>
                    </a:lnTo>
                    <a:lnTo>
                      <a:pt x="15290" y="15874"/>
                    </a:lnTo>
                    <a:arcTo wR="7785" hR="21600" stAng="-2240307" swAng="-2918314"/>
                    <a:lnTo>
                      <a:pt x="9276" y="400"/>
                    </a:lnTo>
                    <a:arcTo wR="7785" hR="21600" stAng="-5641379" swAng="-5158621"/>
                    <a:close/>
                  </a:path>
                  <a:path fill="darkenLess" w="21600" h="21600">
                    <a:moveTo>
                      <a:pt x="0" y="21600"/>
                    </a:moveTo>
                    <a:arcTo wR="7785" hR="21600" stAng="10800000" swAng="5400000"/>
                    <a:lnTo>
                      <a:pt x="7785" y="0"/>
                    </a:lnTo>
                    <a:arcTo wR="7785" hR="21600" stAng="-5400000" swAng="241379"/>
                    <a:lnTo>
                      <a:pt x="9276" y="400"/>
                    </a:lnTo>
                    <a:arcTo wR="7785" hR="21600" stAng="-5641379" swAng="-5158621"/>
                    <a:close/>
                  </a:path>
                </a:pathLst>
              </a:cu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 Box 37"/>
              <p:cNvSpPr/>
              <p:nvPr/>
            </p:nvSpPr>
            <p:spPr>
              <a:xfrm>
                <a:off x="273240" y="3015720"/>
                <a:ext cx="2210040" cy="12852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ctionable Knowledg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ituation Analysis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--</a:t>
                </a: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</a:t>
                </a: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urrent and projected food security and nutrition condition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ntervention Analysis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--</a:t>
                </a: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trategic advice on most effective, efficient, and sustainable intervention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12600" y="4059000"/>
            <a:ext cx="2674440" cy="2251080"/>
            <a:chOff x="-12600" y="4059000"/>
            <a:chExt cx="2674440" cy="2251080"/>
          </a:xfrm>
        </p:grpSpPr>
        <p:grpSp>
          <p:nvGrpSpPr>
            <p:cNvPr id="60" name="Group 18"/>
            <p:cNvGrpSpPr/>
            <p:nvPr/>
          </p:nvGrpSpPr>
          <p:grpSpPr>
            <a:xfrm>
              <a:off x="-12600" y="4059000"/>
              <a:ext cx="2674440" cy="2251080"/>
              <a:chOff x="-12600" y="4059000"/>
              <a:chExt cx="2674440" cy="2251080"/>
            </a:xfrm>
          </p:grpSpPr>
          <p:sp>
            <p:nvSpPr>
              <p:cNvPr id="61" name="Text Box 21"/>
              <p:cNvSpPr/>
              <p:nvPr/>
            </p:nvSpPr>
            <p:spPr>
              <a:xfrm>
                <a:off x="172080" y="5144040"/>
                <a:ext cx="2489760" cy="1166040"/>
              </a:xfrm>
              <a:prstGeom prst="rect">
                <a:avLst/>
              </a:prstGeom>
              <a:solidFill>
                <a:srgbClr val="ffc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ntegrated Analysis of Food Access, Availability, Utilization, and Stabil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ross-Sectora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Multi-Agency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Multi-Temporal (immediate, medium, and long-term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Multi-Scale (HH—Village--District--Nation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20"/>
              <p:cNvSpPr/>
              <p:nvPr/>
            </p:nvSpPr>
            <p:spPr>
              <a:xfrm flipV="1">
                <a:off x="1381320" y="4293720"/>
                <a:ext cx="5400" cy="80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AutoShape 19"/>
              <p:cNvSpPr/>
              <p:nvPr/>
            </p:nvSpPr>
            <p:spPr>
              <a:xfrm flipH="1" rot="16746000">
                <a:off x="-255960" y="4418640"/>
                <a:ext cx="1129680" cy="470520"/>
              </a:xfrm>
              <a:custGeom>
                <a:avLst/>
                <a:gdLst>
                  <a:gd name="textAreaLeft" fmla="*/ 205560 w 1129680"/>
                  <a:gd name="textAreaRight" fmla="*/ 758160 w 1129680"/>
                  <a:gd name="textAreaTop" fmla="*/ 63000 h 470520"/>
                  <a:gd name="textAreaBottom" fmla="*/ 407520 h 470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852" hR="21600" stAng="10800000" swAng="5400000"/>
                    <a:lnTo>
                      <a:pt x="10566" y="0"/>
                    </a:lnTo>
                    <a:arcTo wR="7852" hR="21600" stAng="-5400000" swAng="3212641"/>
                    <a:lnTo>
                      <a:pt x="21331" y="15998"/>
                    </a:lnTo>
                    <a:lnTo>
                      <a:pt x="17060" y="21600"/>
                    </a:lnTo>
                    <a:lnTo>
                      <a:pt x="12251" y="15998"/>
                    </a:lnTo>
                    <a:lnTo>
                      <a:pt x="15434" y="15998"/>
                    </a:lnTo>
                    <a:arcTo wR="7852" hR="21600" stAng="-2187359" swAng="-2993665"/>
                    <a:lnTo>
                      <a:pt x="9209" y="325"/>
                    </a:lnTo>
                    <a:arcTo wR="7852" hR="21600" stAng="-5618976" swAng="-5181024"/>
                    <a:close/>
                  </a:path>
                  <a:path fill="darkenLess" w="21600" h="21600">
                    <a:moveTo>
                      <a:pt x="0" y="21600"/>
                    </a:moveTo>
                    <a:arcTo wR="7852" hR="21600" stAng="10800000" swAng="5400000"/>
                    <a:lnTo>
                      <a:pt x="7852" y="0"/>
                    </a:lnTo>
                    <a:arcTo wR="7852" hR="21600" stAng="-5400000" swAng="218976"/>
                    <a:lnTo>
                      <a:pt x="9209" y="325"/>
                    </a:lnTo>
                    <a:arcTo wR="7852" hR="21600" stAng="-5618976" swAng="-5181024"/>
                    <a:close/>
                  </a:path>
                </a:pathLst>
              </a:cu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Text Box 17"/>
            <p:cNvSpPr/>
            <p:nvPr/>
          </p:nvSpPr>
          <p:spPr>
            <a:xfrm>
              <a:off x="33480" y="4420800"/>
              <a:ext cx="886320" cy="2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800080"/>
                  </a:solidFill>
                  <a:latin typeface="Arial"/>
                  <a:ea typeface="Times New Roman"/>
                </a:rPr>
                <a:t>Requi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63"/>
          <p:cNvGrpSpPr/>
          <p:nvPr/>
        </p:nvGrpSpPr>
        <p:grpSpPr>
          <a:xfrm>
            <a:off x="7456320" y="1846440"/>
            <a:ext cx="1710000" cy="2973240"/>
            <a:chOff x="7456320" y="1846440"/>
            <a:chExt cx="1710000" cy="2973240"/>
          </a:xfrm>
        </p:grpSpPr>
        <p:grpSp>
          <p:nvGrpSpPr>
            <p:cNvPr id="66" name="Group 32"/>
            <p:cNvGrpSpPr/>
            <p:nvPr/>
          </p:nvGrpSpPr>
          <p:grpSpPr>
            <a:xfrm>
              <a:off x="7577280" y="1846440"/>
              <a:ext cx="1479240" cy="2973240"/>
              <a:chOff x="7577280" y="1846440"/>
              <a:chExt cx="1479240" cy="2973240"/>
            </a:xfrm>
          </p:grpSpPr>
          <p:sp>
            <p:nvSpPr>
              <p:cNvPr id="67" name="Rectangle 34"/>
              <p:cNvSpPr/>
              <p:nvPr/>
            </p:nvSpPr>
            <p:spPr>
              <a:xfrm>
                <a:off x="7577280" y="1846440"/>
                <a:ext cx="1479240" cy="2973240"/>
              </a:xfrm>
              <a:prstGeom prst="rect">
                <a:avLst/>
              </a:prstGeom>
              <a:solidFill>
                <a:srgbClr val="008000">
                  <a:alpha val="6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Text Box 33"/>
              <p:cNvSpPr/>
              <p:nvPr/>
            </p:nvSpPr>
            <p:spPr>
              <a:xfrm>
                <a:off x="7733160" y="3000600"/>
                <a:ext cx="1274760" cy="12528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mproved Food Security for all Tanzanians through adequate and stable access, availability, and utilization of nutritious food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Text Box 45"/>
            <p:cNvSpPr/>
            <p:nvPr/>
          </p:nvSpPr>
          <p:spPr>
            <a:xfrm>
              <a:off x="7456320" y="2021040"/>
              <a:ext cx="17100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oal: Food and Nutrition Securit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Rectangle 47"/>
          <p:cNvSpPr/>
          <p:nvPr/>
        </p:nvSpPr>
        <p:spPr>
          <a:xfrm>
            <a:off x="-2052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2"/>
          <p:cNvSpPr/>
          <p:nvPr/>
        </p:nvSpPr>
        <p:spPr>
          <a:xfrm>
            <a:off x="-20520" y="674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22"/>
          <p:cNvGrpSpPr/>
          <p:nvPr/>
        </p:nvGrpSpPr>
        <p:grpSpPr>
          <a:xfrm>
            <a:off x="5711760" y="1566000"/>
            <a:ext cx="2838960" cy="3825000"/>
            <a:chOff x="5711760" y="1566000"/>
            <a:chExt cx="2838960" cy="3825000"/>
          </a:xfrm>
        </p:grpSpPr>
        <p:grpSp>
          <p:nvGrpSpPr>
            <p:cNvPr id="73" name="Group 24"/>
            <p:cNvGrpSpPr/>
            <p:nvPr/>
          </p:nvGrpSpPr>
          <p:grpSpPr>
            <a:xfrm>
              <a:off x="5711760" y="1566000"/>
              <a:ext cx="2838960" cy="3825000"/>
              <a:chOff x="5711760" y="1566000"/>
              <a:chExt cx="2838960" cy="3825000"/>
            </a:xfrm>
          </p:grpSpPr>
          <p:sp>
            <p:nvSpPr>
              <p:cNvPr id="74" name="Rectangle 31"/>
              <p:cNvSpPr/>
              <p:nvPr/>
            </p:nvSpPr>
            <p:spPr>
              <a:xfrm>
                <a:off x="5711760" y="1846800"/>
                <a:ext cx="1828800" cy="3544200"/>
              </a:xfrm>
              <a:prstGeom prst="rect">
                <a:avLst/>
              </a:prstGeom>
              <a:solidFill>
                <a:srgbClr val="008000">
                  <a:alpha val="47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 Box 30"/>
              <p:cNvSpPr/>
              <p:nvPr/>
            </p:nvSpPr>
            <p:spPr>
              <a:xfrm>
                <a:off x="5877360" y="2925360"/>
                <a:ext cx="1486080" cy="82872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ncreased/Diversified    Product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Free market exchang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urchasing Powe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HH Care Pract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Text Box 29"/>
              <p:cNvSpPr/>
              <p:nvPr/>
            </p:nvSpPr>
            <p:spPr>
              <a:xfrm>
                <a:off x="5892480" y="1997280"/>
                <a:ext cx="1371600" cy="82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nabling Environment and Effective Intervention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28"/>
              <p:cNvSpPr/>
              <p:nvPr/>
            </p:nvSpPr>
            <p:spPr>
              <a:xfrm flipV="1">
                <a:off x="7444800" y="3796200"/>
                <a:ext cx="306720" cy="40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27"/>
              <p:cNvSpPr/>
              <p:nvPr/>
            </p:nvSpPr>
            <p:spPr>
              <a:xfrm>
                <a:off x="7361640" y="3135960"/>
                <a:ext cx="389880" cy="31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AutoShape 26"/>
              <p:cNvSpPr/>
              <p:nvPr/>
            </p:nvSpPr>
            <p:spPr>
              <a:xfrm flipH="1" rot="21587400">
                <a:off x="6418080" y="1569600"/>
                <a:ext cx="2131200" cy="471240"/>
              </a:xfrm>
              <a:custGeom>
                <a:avLst/>
                <a:gdLst>
                  <a:gd name="textAreaLeft" fmla="*/ 387360 w 2131200"/>
                  <a:gd name="textAreaRight" fmla="*/ 1429920 w 2131200"/>
                  <a:gd name="textAreaTop" fmla="*/ 63000 h 471240"/>
                  <a:gd name="textAreaBottom" fmla="*/ 408240 h 47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852" hR="21600" stAng="10800000" swAng="5400000"/>
                    <a:lnTo>
                      <a:pt x="10566" y="0"/>
                    </a:lnTo>
                    <a:arcTo wR="7852" hR="21600" stAng="-5400000" swAng="3173884"/>
                    <a:lnTo>
                      <a:pt x="21319" y="15874"/>
                    </a:lnTo>
                    <a:lnTo>
                      <a:pt x="17060" y="21600"/>
                    </a:lnTo>
                    <a:lnTo>
                      <a:pt x="12239" y="15874"/>
                    </a:lnTo>
                    <a:lnTo>
                      <a:pt x="15422" y="15874"/>
                    </a:lnTo>
                    <a:arcTo wR="7852" hR="21600" stAng="-2226116" swAng="-2954907"/>
                    <a:lnTo>
                      <a:pt x="9209" y="325"/>
                    </a:lnTo>
                    <a:arcTo wR="7852" hR="21600" stAng="-5618976" swAng="-5181024"/>
                    <a:close/>
                  </a:path>
                  <a:path fill="darkenLess" w="21600" h="21600">
                    <a:moveTo>
                      <a:pt x="0" y="21600"/>
                    </a:moveTo>
                    <a:arcTo wR="7852" hR="21600" stAng="10800000" swAng="5400000"/>
                    <a:lnTo>
                      <a:pt x="7852" y="0"/>
                    </a:lnTo>
                    <a:arcTo wR="7852" hR="21600" stAng="-5400000" swAng="218976"/>
                    <a:lnTo>
                      <a:pt x="9209" y="325"/>
                    </a:lnTo>
                    <a:arcTo wR="7852" hR="21600" stAng="-5618976" swAng="-5181024"/>
                    <a:close/>
                  </a:path>
                </a:pathLst>
              </a:cu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25"/>
              <p:cNvSpPr/>
              <p:nvPr/>
            </p:nvSpPr>
            <p:spPr>
              <a:xfrm>
                <a:off x="5873400" y="3921120"/>
                <a:ext cx="1613160" cy="6858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olicy Implementat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trategic Plannin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velopment Program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mergency Respons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Text Box 23"/>
            <p:cNvSpPr/>
            <p:nvPr/>
          </p:nvSpPr>
          <p:spPr>
            <a:xfrm>
              <a:off x="7216200" y="1581120"/>
              <a:ext cx="886320" cy="2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800080"/>
                  </a:solidFill>
                  <a:latin typeface="Arial"/>
                  <a:ea typeface="Times New Roman"/>
                </a:rPr>
                <a:t>Requi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6"/>
          <p:cNvGrpSpPr/>
          <p:nvPr/>
        </p:nvGrpSpPr>
        <p:grpSpPr>
          <a:xfrm>
            <a:off x="2927520" y="1529640"/>
            <a:ext cx="3366000" cy="4437360"/>
            <a:chOff x="2927520" y="1529640"/>
            <a:chExt cx="3366000" cy="4437360"/>
          </a:xfrm>
        </p:grpSpPr>
        <p:sp>
          <p:nvSpPr>
            <p:cNvPr id="83" name="Text Box 15"/>
            <p:cNvSpPr/>
            <p:nvPr/>
          </p:nvSpPr>
          <p:spPr>
            <a:xfrm>
              <a:off x="4955040" y="1563120"/>
              <a:ext cx="886320" cy="29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800080"/>
                  </a:solidFill>
                  <a:latin typeface="Arial"/>
                  <a:ea typeface="Times New Roman"/>
                </a:rPr>
                <a:t>Requi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7"/>
            <p:cNvGrpSpPr/>
            <p:nvPr/>
          </p:nvGrpSpPr>
          <p:grpSpPr>
            <a:xfrm>
              <a:off x="2927520" y="1529640"/>
              <a:ext cx="3366000" cy="4437360"/>
              <a:chOff x="2927520" y="1529640"/>
              <a:chExt cx="3366000" cy="4437360"/>
            </a:xfrm>
          </p:grpSpPr>
          <p:sp>
            <p:nvSpPr>
              <p:cNvPr id="85" name="Rectangle 14"/>
              <p:cNvSpPr/>
              <p:nvPr/>
            </p:nvSpPr>
            <p:spPr>
              <a:xfrm>
                <a:off x="2927520" y="1846440"/>
                <a:ext cx="2751840" cy="4120560"/>
              </a:xfrm>
              <a:prstGeom prst="rect">
                <a:avLst/>
              </a:prstGeom>
              <a:solidFill>
                <a:srgbClr val="008000">
                  <a:alpha val="34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Text Box 13"/>
              <p:cNvSpPr/>
              <p:nvPr/>
            </p:nvSpPr>
            <p:spPr>
              <a:xfrm>
                <a:off x="3657600" y="2819520"/>
                <a:ext cx="1371600" cy="9144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2286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ivate Secto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2286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oducer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2286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rader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2286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ivil Society/ NGO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2286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Household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Text Box 12"/>
              <p:cNvSpPr/>
              <p:nvPr/>
            </p:nvSpPr>
            <p:spPr>
              <a:xfrm>
                <a:off x="3606840" y="2057400"/>
                <a:ext cx="14857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trategic Decision Making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11"/>
              <p:cNvSpPr/>
              <p:nvPr/>
            </p:nvSpPr>
            <p:spPr>
              <a:xfrm>
                <a:off x="5009040" y="3223800"/>
                <a:ext cx="858240" cy="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0"/>
              <p:cNvSpPr/>
              <p:nvPr/>
            </p:nvSpPr>
            <p:spPr>
              <a:xfrm>
                <a:off x="5528880" y="4122720"/>
                <a:ext cx="342720" cy="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Text Box 9"/>
              <p:cNvSpPr/>
              <p:nvPr/>
            </p:nvSpPr>
            <p:spPr>
              <a:xfrm>
                <a:off x="3294360" y="3885480"/>
                <a:ext cx="2228760" cy="17388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Government of Tanzan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nd Development Partner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gricultural Sector Lead Ministri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SDP Food Security Task Forc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anzania Disaster Relief Executive Committe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gional Administrations and Local Government Authoriti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velopment Partners--UNDAP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AutoShape 8"/>
              <p:cNvSpPr/>
              <p:nvPr/>
            </p:nvSpPr>
            <p:spPr>
              <a:xfrm flipH="1" rot="21587400">
                <a:off x="4161600" y="1533240"/>
                <a:ext cx="2130840" cy="491400"/>
              </a:xfrm>
              <a:custGeom>
                <a:avLst/>
                <a:gdLst>
                  <a:gd name="textAreaLeft" fmla="*/ 386640 w 2130840"/>
                  <a:gd name="textAreaRight" fmla="*/ 1429200 w 2130840"/>
                  <a:gd name="textAreaTop" fmla="*/ 65880 h 491400"/>
                  <a:gd name="textAreaBottom" fmla="*/ 425520 h 491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852" hR="21600" stAng="10800000" swAng="5400000"/>
                    <a:lnTo>
                      <a:pt x="10566" y="0"/>
                    </a:lnTo>
                    <a:arcTo wR="7852" hR="21600" stAng="-5400000" swAng="3173884"/>
                    <a:lnTo>
                      <a:pt x="21319" y="15874"/>
                    </a:lnTo>
                    <a:lnTo>
                      <a:pt x="17060" y="21600"/>
                    </a:lnTo>
                    <a:lnTo>
                      <a:pt x="12239" y="15874"/>
                    </a:lnTo>
                    <a:lnTo>
                      <a:pt x="15422" y="15874"/>
                    </a:lnTo>
                    <a:arcTo wR="7852" hR="21600" stAng="-2226116" swAng="-2954907"/>
                    <a:lnTo>
                      <a:pt x="9209" y="325"/>
                    </a:lnTo>
                    <a:arcTo wR="7852" hR="21600" stAng="-5618976" swAng="-5181024"/>
                    <a:close/>
                  </a:path>
                  <a:path fill="darkenLess" w="21600" h="21600">
                    <a:moveTo>
                      <a:pt x="0" y="21600"/>
                    </a:moveTo>
                    <a:arcTo wR="7852" hR="21600" stAng="10800000" swAng="5400000"/>
                    <a:lnTo>
                      <a:pt x="7852" y="0"/>
                    </a:lnTo>
                    <a:arcTo wR="7852" hR="21600" stAng="-5400000" swAng="218976"/>
                    <a:lnTo>
                      <a:pt x="9209" y="325"/>
                    </a:lnTo>
                    <a:arcTo wR="7852" hR="21600" stAng="-5618976" swAng="-5181024"/>
                    <a:close/>
                  </a:path>
                </a:pathLst>
              </a:cu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idence-Based Decision Making Framework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07:09:54Z</dcterms:created>
  <dc:creator>nick</dc:creator>
  <dc:description/>
  <dc:language>en-US</dc:language>
  <cp:lastModifiedBy>Rutachokozibwa</cp:lastModifiedBy>
  <dcterms:modified xsi:type="dcterms:W3CDTF">2011-09-05T08:22:31Z</dcterms:modified>
  <cp:revision>218</cp:revision>
  <dc:subject/>
  <dc:title>Slide 1</dc:title>
</cp:coreProperties>
</file>